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F4C-90A7-4D62-8032-0536AD60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A398-ABAB-4DEC-ADE0-F4643CE1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63E-25C3-414E-BAE6-3B5B6E0E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6570-153A-4282-A1DE-55A98F17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8C1D-61D0-44B5-A2A8-FFE1965D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18C-B535-4BA5-B7D6-4A6E9767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A2F9-CDB2-4221-ACBD-410624CF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F2F1-D7CD-47E9-8A76-2AF1795C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597-892D-40EA-AF11-514497B1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28D-D541-4932-8B12-82BDFA92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A574-95C2-4895-AC37-08CB117A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DD6-FF25-46C5-9A38-4290C8C5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BE1E-249D-4010-A95D-57C365ED7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60280"/>
            <a:ext cx="8604000" cy="1326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– n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die – nobody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nca – nev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nada- 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… ni… - neither…n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mpoco – n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mo – I smok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ma - he / she smok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man – they smo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916280"/>
            <a:ext cx="820908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umar = to smo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body smokes 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never smoke 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have never smoked (using perfect) 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e doesn’t smoke either __No_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ither Jo nor Nicky smoke ever 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557360"/>
            <a:ext cx="849780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using negative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listen to a description of opinions on smo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work together on final role-plays on the subject of healt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do a quiz based on a description of an accid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2349360"/>
            <a:ext cx="624852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¿Fum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197000"/>
            <a:ext cx="624852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íntomas (2), desde hace cuánto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3500280"/>
            <a:ext cx="624852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¿Qué comiste ay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4581360"/>
            <a:ext cx="624852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TESTA A LA PREGU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89000"/>
            <a:ext cx="712944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parejas, decide como contestar a las pregunt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2349360"/>
            <a:ext cx="624852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¿Haces mucho ejercic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197000"/>
            <a:ext cx="624852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íntomas (2), desde hace cuánto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3500280"/>
            <a:ext cx="624852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¿Qué bebiste ay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4581360"/>
            <a:ext cx="624852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TESTA A LA PREGU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6:11:49Z</dcterms:created>
  <dc:creator>Owner1</dc:creator>
  <dc:description/>
  <dc:language>en-US</dc:language>
  <cp:lastModifiedBy>Owner1</cp:lastModifiedBy>
  <dcterms:modified xsi:type="dcterms:W3CDTF">2008-11-11T15:59:13Z</dcterms:modified>
  <cp:revision>3</cp:revision>
  <dc:subject/>
  <dc:title>Slide 1</dc:title>
</cp:coreProperties>
</file>